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D9F-6AB0-4CD0-9BB6-62915EFB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169-03CB-4DAC-94BD-E53C974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FA4-B283-4399-835E-84AEE925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CDE-999C-49D3-87D1-80A57554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DA2D-3C6C-4E99-85AC-EA7F77A1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A4EA-0519-41A3-B16B-CCE6C3B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5D6B-21A5-4BAE-B249-24356DA4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B0A9-860F-4F23-8F40-CDB51166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952B-B231-4664-9982-859C7F14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65920" cy="80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D3A1-412A-431A-BEBD-CC53B55F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E64A-5214-4754-AAC2-D09C8CC0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277-1E43-4572-B18C-1300CA4A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5F96-428C-4233-AF22-7BC2D186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EFEF-DF8E-4ADE-98E3-B8BB5E28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1FFE-0D11-48A5-B9C7-EBD51A7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3E0E-C93A-4A1D-BC64-78158561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2F31-E1B8-40F4-AB35-039E9B1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F12-EB7B-47F4-AD48-937B393F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446-1AA4-4EB3-8C96-27AAC66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0ED-7480-49CD-885B-E525DE38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65920" cy="80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574-3E84-4767-923F-A54AB7B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2B9-C9B3-4BEE-85AF-3C9F395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0DD-7592-40B6-8E72-0B71F6C9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07D-67DD-4866-A52C-F7BEC38A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5520"/>
              <a:chOff x="1440" y="622440"/>
              <a:chExt cx="9141120" cy="24955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51520-419A-4B50-91F3-29DF1653D9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79" name="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760" y="0"/>
              <a:ext cx="8092800" cy="6851520"/>
              <a:chOff x="455760" y="0"/>
              <a:chExt cx="809280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840" y="0"/>
                <a:ext cx="11448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2120" y="0"/>
                <a:ext cx="27648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9080" y="0"/>
                <a:ext cx="53532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416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560" y="0"/>
                <a:ext cx="88596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840" y="0"/>
                <a:ext cx="109548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9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700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120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3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920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7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76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5520"/>
              <a:chOff x="0" y="622440"/>
              <a:chExt cx="9140760" cy="24955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180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59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120"/>
            <a:ext cx="21272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3722A-30FC-4F8D-965C-8A44872B57CD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ur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 this meant to happ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e ages to n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can we tell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ee r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di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e bubbl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533840" cy="4533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e We The Caus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leting the Atmosphe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erosol c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side bu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fi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57840" y="3200400"/>
            <a:ext cx="4286160" cy="3705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70040" y="1295280"/>
          <a:ext cx="7459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95280"/>
                    <a:ext cx="74595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810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rrent Stakehold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1124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tis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(small) inhabit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uris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sh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43480" y="3419640"/>
            <a:ext cx="3800520" cy="3438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y opin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le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e togeth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Antarctica - Its People, Cities, History and Culture.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NTENCE - The Fictions of Ralph Robert Moor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3 May 2010. &lt;http://www.ralphrobertmoore.com/arc-government.html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Melting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GreenDaily.com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3 May 2010. &lt;http://www.blogcdn.com/www.greendaily.com/media/2008/01/1-global-warming-antarctica-melting-550.jpg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Antarctica - Global warming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ol Antarctica, pictures of Antarctica, information and travel guid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n.d. Web. 3 May 2010. &lt;http://www.coolantarctica.com/Antarctica%20fact%20file/science/global_warming.htm&gt;. `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10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686560" y="3124080"/>
            <a:ext cx="3457440" cy="3733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486400" y="0"/>
            <a:ext cx="3276720" cy="3151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124080" y="3200400"/>
            <a:ext cx="2954520" cy="3809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er only study cam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rrently, only scienti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habitants of the 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3819600"/>
            <a:ext cx="3333600" cy="2809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and Econo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1652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political part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electio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n-exis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lunteer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re is no economic a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Fishing and Touri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The Antarctican dolla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81800" y="5029200"/>
            <a:ext cx="1976400" cy="1316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uris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ientific resear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s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ls may only be hunted by perm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ling bann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3600" y="4622760"/>
            <a:ext cx="3195720" cy="2235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rease in average tempera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038480" cy="4198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the Greenhouse Effec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8400" y="1199880"/>
            <a:ext cx="838188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mperature ris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ts trapp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eenhouse gas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kes earth liv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286080" y="2924280"/>
          <a:ext cx="5857920" cy="39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924280"/>
                    <a:ext cx="585792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15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rover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5:42:06Z</dcterms:created>
  <dc:creator>Kayla</dc:creator>
  <dc:description/>
  <dc:language>en-US</dc:language>
  <cp:lastModifiedBy>Kayla</cp:lastModifiedBy>
  <dcterms:modified xsi:type="dcterms:W3CDTF">2010-06-03T15:42:29Z</dcterms:modified>
  <cp:revision>8</cp:revision>
  <dc:subject/>
  <dc:title>Global Warming </dc:title>
</cp:coreProperties>
</file>